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72E1-CBBC-4A46-A030-FC94DABA1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D000-4739-49A4-B1BF-E74F2E47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C1D50-0FAC-46CA-A488-473D24136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B71A-163A-4025-BE3D-D4A5D5CE8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4525-0580-49FC-8AB1-364B4808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5081-665E-4B45-A806-197B9F08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8FE8C-59AC-49CE-AD9A-121207CE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F1781-45C8-47C3-AFC7-6E730E63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5720-2B25-4EFD-B16D-A0392A43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5239-0F15-41EF-BEC1-0AB6BEBC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5DB1-3386-49C9-91A5-CA1F0DFF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CC40-A0B3-4491-901B-61260E914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1719-217E-4D11-BD36-746BAA349A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228600"/>
            <a:ext cx="9144000" cy="64008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e middle Ages, defenders of a castle sometimes poured hot liquids down onto invaders who tried to storm the fortress walls. The liquid of choice was usually any available oil. What properties of oil do you think prompted this choice? This investigation will allow you to discover a chemical principle that has had many practical applications over the centuries, although today we look upon some of them as less than exemplary.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You know from experience that it takes much longer to heat a large kettle of water to boiling than it does a small pan of water. You reason that there is more water to be heated in the larger sample, and that is correct. You also know that the longer heating time involves a larger amount of heat. We say that the larger sample has a larger heat capacity. The heat capacity of anything—whether solid, liquid, or gas—depends on the amount of the material in the sample as well as its chemical composition. For example, every gram of water requires the same amount of heat on warming from room temperature to 100°C. It follows that the larger the sample, the greater is the amount of heat needed to reach the boiling point.</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find the heat capacity of a lead sinker. You will do this by finding the mass of the sinker, warming it to the boiling point of water, placing it in a sample of room-temperature water in a calorimeter, and measuring the temperature change of the water sample. From the data collected you will then calculate the heat lost by the sinker to the water and thus the lead sinker’s heat capacity.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Discussion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entire laboratory investigation and the relevant pages of your textbook. Then answer the questions that follow. </a:t>
            </a:r>
            <a:br>
              <a:rPr sz="1200"/>
            </a:br>
            <a:r>
              <a:rPr b="0" lang="en-US" sz="1200" spc="-1" strike="noStrike">
                <a:solidFill>
                  <a:srgbClr val="000000"/>
                </a:solidFill>
                <a:latin typeface="Calibri"/>
              </a:rPr>
              <a:t>1. What quantities do you need to know in order to determine the amount of heat released by the lead sinker in cooling to the final temperature? </a:t>
            </a:r>
            <a:br>
              <a:rPr sz="1200"/>
            </a:br>
            <a:r>
              <a:rPr b="0" lang="en-US" sz="1200" spc="-1" strike="noStrike">
                <a:solidFill>
                  <a:srgbClr val="000000"/>
                </a:solidFill>
                <a:latin typeface="Calibri"/>
              </a:rPr>
              <a:t>2. What important assumption have you made in Question 1 in determining the amount of heat released by the lead sink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How is each quantity In Question I obtaine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What quantities do you need to know in order to determine the heat capacity of the lead sink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How is each quantity In Question 4 obtained?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 How is the heat capacity of the lead sinker determined?</a:t>
            </a:r>
            <a:br>
              <a:rPr sz="1200"/>
            </a:br>
            <a:r>
              <a:rPr b="0" lang="en-US" sz="1200" spc="-1" strike="noStrike">
                <a:solidFill>
                  <a:srgbClr val="000000"/>
                </a:solidFill>
                <a:latin typeface="Calibri"/>
              </a:rPr>
              <a:t>7. Why should you not use the thermometer as a stirring rod?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blem </a:t>
            </a:r>
            <a:r>
              <a:rPr b="0" lang="en-US" sz="1200" spc="-1" strike="noStrike">
                <a:solidFill>
                  <a:srgbClr val="000000"/>
                </a:solidFill>
                <a:latin typeface="Calibri"/>
              </a:rPr>
              <a:t>How can the heat capacity of a lead sinker be determined? </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60" y="228240"/>
            <a:ext cx="8915400" cy="66294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cula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etermine the change in temperature of the water in the calorime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termine the heat absorbed by the 100.0 mL of water in the calorimeter in warming to the final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termine the change in temperature of the lead sinker in cooling to its final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alculate the amount of heat released by the lead sinker for each one-degree Celsius change in temperature. This Is the heat capacity of the sink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itical Thinking: Analysis and Conclus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scientific law accounts for the assumption that the heat gained by the water in the calorimeter Is equal to the heat lost by the lea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ker?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f you had a lead sample that was double the mass of the sinker you used in the investigation, what would be the heat capacity of the heevier sample? Give the reason for your answer, (Making comparis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at is the relationship between the specific heat of a substance and the heat capacity of a sample of that substance? (Applying concepts)_</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Given the mass of your lead sample. calculate c, the specific heat of lead.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Determine the percent error for the specific heat calculated in I Question4lftheacceptedvalueforthespeclbcheatofteadi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59 J/g.°C.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Predict whether or not the values for the heat capacity of the sinkers used by your classmates will be the same as the value you obtaine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your sinker. (Making predictions)</a:t>
            </a:r>
            <a:endParaRPr b="0" lang="en-US" sz="1200" spc="-1" strike="noStrike">
              <a:solidFill>
                <a:srgbClr val="000000"/>
              </a:solidFill>
              <a:latin typeface="Calibri"/>
            </a:endParaRPr>
          </a:p>
        </p:txBody>
      </p:sp>
      <p:graphicFrame>
        <p:nvGraphicFramePr>
          <p:cNvPr id="66" name=""/>
          <p:cNvGraphicFramePr/>
          <p:nvPr/>
        </p:nvGraphicFramePr>
        <p:xfrm>
          <a:off x="1143000" y="304920"/>
          <a:ext cx="3962520" cy="1752480"/>
        </p:xfrm>
        <a:graphic>
          <a:graphicData uri="http://schemas.openxmlformats.org/drawingml/2006/table">
            <a:tbl>
              <a:tblPr/>
              <a:tblGrid>
                <a:gridCol w="2514600"/>
                <a:gridCol w="1447920"/>
              </a:tblGrid>
              <a:tr h="285480">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ATA TABLE</a:t>
                      </a:r>
                      <a:endParaRPr b="0" lang="en-US" sz="1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 of lead shot</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 of room temperature wa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itial temperature of water in calorime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 temperature of water in calorime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mperature of boiling wa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228600" y="228600"/>
            <a:ext cx="8229600" cy="452592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itical Thinking Applications</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The specific heat of most oils Is about 2 J/g.C. compared to a value of 415 j/g.°C for water. Why do you now think oil, rather than water, was the liquid of choke used by castle defenders against invading forces? (Making comparisons)</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A disc of wax has several hot metal samples placed on It. The samples are of different metals. They are all at the same temperature and have the same mass and contact area with the wax. How will the heat capacity of each metal sample affect the rate at which it melts the wax? (Making predictions)</a:t>
            </a:r>
            <a:endParaRPr b="0" lang="en-US" sz="1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304920" y="152280"/>
            <a:ext cx="4038480" cy="45259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splash goggles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kers, 600mL</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kers, 400mL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apron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plat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 sho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cylinder, 100mL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balanc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rmometers or temperature prob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 foam calorime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ometer clam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st tube clam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g stand</a:t>
            </a:r>
            <a:br>
              <a:rPr sz="1200"/>
            </a:br>
            <a:endParaRPr b="0" lang="en-US" sz="1200" spc="-1" strike="noStrike">
              <a:solidFill>
                <a:srgbClr val="000000"/>
              </a:solidFill>
              <a:latin typeface="Calibri"/>
            </a:endParaRPr>
          </a:p>
        </p:txBody>
      </p:sp>
      <p:sp>
        <p:nvSpPr>
          <p:cNvPr id="43" name=""/>
          <p:cNvSpPr txBox="1"/>
          <p:nvPr/>
        </p:nvSpPr>
        <p:spPr>
          <a:xfrm>
            <a:off x="4648320" y="152280"/>
            <a:ext cx="403848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r>
              <a:rPr b="0" lang="en-US" sz="1200" spc="-1" strike="noStrike" u="sng">
                <a:solidFill>
                  <a:srgbClr val="000000"/>
                </a:solidFill>
                <a:uFillTx/>
                <a:latin typeface="Calibri"/>
              </a:rPr>
              <a:t> </a:t>
            </a:r>
            <a:br>
              <a:rPr sz="1200"/>
            </a:br>
            <a:r>
              <a:rPr b="0" lang="en-US" sz="1200" spc="-1" strike="noStrike">
                <a:solidFill>
                  <a:srgbClr val="000000"/>
                </a:solidFill>
                <a:latin typeface="Calibri"/>
              </a:rPr>
              <a:t>Wear your goggles and tab apron at all times during the investigation. Use caution when working with the hot plate. Never touch it with ban skin. Note the caution and alert symbols here and with certain steps of the procedure.   Refer to page xi for the specific precautions associate with each symbol.</a:t>
            </a:r>
            <a:endParaRPr b="0" lang="en-US" sz="1200" spc="-1" strike="noStrike">
              <a:solidFill>
                <a:srgbClr val="000000"/>
              </a:solidFill>
              <a:latin typeface="Calibri"/>
            </a:endParaRPr>
          </a:p>
        </p:txBody>
      </p:sp>
      <p:pic>
        <p:nvPicPr>
          <p:cNvPr id="44" name="Picture 2" descr=""/>
          <p:cNvPicPr/>
          <p:nvPr/>
        </p:nvPicPr>
        <p:blipFill>
          <a:blip r:embed="rId1"/>
          <a:stretch/>
        </p:blipFill>
        <p:spPr>
          <a:xfrm>
            <a:off x="3646440" y="1600200"/>
            <a:ext cx="4878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4648320" y="1600200"/>
            <a:ext cx="4038480" cy="4525920"/>
          </a:xfrm>
          <a:prstGeom prst="rect">
            <a:avLst/>
          </a:prstGeom>
          <a:ln w="0">
            <a:noFill/>
          </a:ln>
        </p:spPr>
      </p:pic>
      <p:pic>
        <p:nvPicPr>
          <p:cNvPr id="47"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01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
                    </p:tgtEl>
                  </p:cond>
                </p:stCondLst>
                <p:childTnLst>
                  <p:par>
                    <p:cTn id="8" fill="hold">
                      <p:stCondLst>
                        <p:cond evt="onClick">
                          <p:tgtEl>
                            <p:spTgt spid="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2023"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0"/>
                    </p:tgtEl>
                  </p:cond>
                </p:stCondLst>
                <p:childTnLst>
                  <p:par>
                    <p:cTn id="19" fill="hold">
                      <p:stCondLst>
                        <p:cond evt="onClick">
                          <p:tgtEl>
                            <p:spTgt spid="5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0" y="-360"/>
            <a:ext cx="4038480" cy="6248520"/>
          </a:xfrm>
          <a:prstGeom prst="rect">
            <a:avLst/>
          </a:prstGeom>
          <a:noFill/>
          <a:ln w="0">
            <a:noFill/>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a plastic foam calorimeter inside a 600-mL beaker.</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4" name="" descr=""/>
          <p:cNvPicPr/>
          <p:nvPr/>
        </p:nvPicPr>
        <p:blipFill>
          <a:blip r:embed="rId1"/>
          <a:stretch/>
        </p:blipFill>
        <p:spPr>
          <a:xfrm>
            <a:off x="4648320" y="1600200"/>
            <a:ext cx="4038480" cy="4525920"/>
          </a:xfrm>
          <a:prstGeom prst="rect">
            <a:avLst/>
          </a:prstGeom>
          <a:ln w="0">
            <a:noFill/>
          </a:ln>
        </p:spPr>
      </p:pic>
      <p:pic>
        <p:nvPicPr>
          <p:cNvPr id="55"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0026"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5"/>
                    </p:tgtEl>
                  </p:cond>
                </p:stCondLst>
                <p:childTnLst>
                  <p:par>
                    <p:cTn id="30" fill="hold">
                      <p:stCondLst>
                        <p:cond evt="onClick">
                          <p:tgtEl>
                            <p:spTgt spid="5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7" name="" descr=""/>
          <p:cNvPicPr/>
          <p:nvPr/>
        </p:nvPicPr>
        <p:blipFill>
          <a:blip r:embed="rId1"/>
          <a:stretch/>
        </p:blipFill>
        <p:spPr>
          <a:xfrm>
            <a:off x="4648320" y="1600200"/>
            <a:ext cx="4038480" cy="4525920"/>
          </a:xfrm>
          <a:prstGeom prst="rect">
            <a:avLst/>
          </a:prstGeom>
          <a:ln w="0">
            <a:noFill/>
          </a:ln>
        </p:spPr>
      </p:pic>
      <p:pic>
        <p:nvPicPr>
          <p:cNvPr id="58" name="" descr=""/>
          <p:cNvPicPr/>
          <p:nvPr/>
        </p:nvPicPr>
        <p:blipFill>
          <a:blip r:embed="rId2"/>
          <a:stretch/>
        </p:blipFill>
        <p:spPr>
          <a:xfrm>
            <a:off x="4038480" y="2590920"/>
            <a:ext cx="4633920" cy="3476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427714"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8"/>
                    </p:tgtEl>
                  </p:cond>
                </p:stCondLst>
                <p:childTnLst>
                  <p:par>
                    <p:cTn id="41" fill="hold">
                      <p:stCondLst>
                        <p:cond evt="onClick">
                          <p:tgtEl>
                            <p:spTgt spid="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60" name="" descr=""/>
          <p:cNvPicPr/>
          <p:nvPr/>
        </p:nvPicPr>
        <p:blipFill>
          <a:blip r:embed="rId1"/>
          <a:stretch/>
        </p:blipFill>
        <p:spPr>
          <a:xfrm>
            <a:off x="4648320" y="1600200"/>
            <a:ext cx="4038480" cy="4525920"/>
          </a:xfrm>
          <a:prstGeom prst="rect">
            <a:avLst/>
          </a:prstGeom>
          <a:ln w="0">
            <a:noFill/>
          </a:ln>
        </p:spPr>
      </p:pic>
      <p:pic>
        <p:nvPicPr>
          <p:cNvPr id="61" name="" descr=""/>
          <p:cNvPicPr/>
          <p:nvPr/>
        </p:nvPicPr>
        <p:blipFill>
          <a:blip r:embed="rId2"/>
          <a:stretch/>
        </p:blipFill>
        <p:spPr>
          <a:xfrm>
            <a:off x="4038480" y="2610000"/>
            <a:ext cx="4633920" cy="3476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1874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61"/>
                    </p:tgtEl>
                  </p:cond>
                </p:stCondLst>
                <p:childTnLst>
                  <p:par>
                    <p:cTn id="52" fill="hold">
                      <p:stCondLst>
                        <p:cond evt="onClick">
                          <p:tgtEl>
                            <p:spTgt spid="61"/>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63" name="" descr=""/>
          <p:cNvPicPr/>
          <p:nvPr/>
        </p:nvPicPr>
        <p:blipFill>
          <a:blip r:embed="rId1"/>
          <a:stretch/>
        </p:blipFill>
        <p:spPr>
          <a:xfrm>
            <a:off x="4648320" y="1600200"/>
            <a:ext cx="4038480" cy="4525920"/>
          </a:xfrm>
          <a:prstGeom prst="rect">
            <a:avLst/>
          </a:prstGeom>
          <a:ln w="0">
            <a:noFill/>
          </a:ln>
        </p:spPr>
      </p:pic>
      <p:pic>
        <p:nvPicPr>
          <p:cNvPr id="64"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10212"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4"/>
                    </p:tgtEl>
                  </p:cond>
                </p:stCondLst>
                <p:childTnLst>
                  <p:par>
                    <p:cTn id="63" fill="hold">
                      <p:stCondLst>
                        <p:cond evt="onClick">
                          <p:tgtEl>
                            <p:spTgt spid="64"/>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20:04:56Z</dcterms:created>
  <dc:creator>OxfordAreaSchoolDistrict</dc:creator>
  <dc:description/>
  <dc:language>en-US</dc:language>
  <cp:lastModifiedBy>OASD</cp:lastModifiedBy>
  <dcterms:modified xsi:type="dcterms:W3CDTF">2011-03-04T14:15:45Z</dcterms:modified>
  <cp:revision>9</cp:revision>
  <dc:subject/>
  <dc:title>Slide 1</dc:title>
</cp:coreProperties>
</file>